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AAB-E48D-45DF-96B5-3C2EAAF2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D96-B28C-4668-B740-DD2B03A1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940-D2E2-4B7C-BCF7-90863159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631-7818-4A6A-9160-DC4B27BB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7EC8-8DC9-44D4-83E0-CBA769D1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CECC-D390-4419-BEA8-12CCAA6C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3AC1-F843-474A-91EC-029360CE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B2F5-0812-4FF4-8646-91D1DD7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725E-4898-4679-853E-32519C64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7979-3E0C-4418-8528-C53BBDCE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D32D-8DB1-4BC1-82E7-6AD62DA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561-0E30-4F16-B48C-B49D197E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7DC4-721D-42AC-9562-89730D3D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D459-9B47-4C86-A41E-CCFD818C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3687-941B-460E-9B27-55274EB7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470B-B54A-41C8-A2B8-E2D41643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D677-5476-4743-9612-0BA13F69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976-D4F6-43BF-A4DF-C14962C4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196-9430-4601-84C2-1189D156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324-EC01-40F6-A8D6-1569041D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1F1-BF33-4600-AC0D-DDC34DAA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02C-E3AB-4CE8-9209-B6F70B57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011-B161-4273-81A6-8354D52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1F0-7866-4F6C-AE8E-E348627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FF82E-B12A-41B2-B4A0-0F53107780D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5640"/>
            <a:ext cx="8564400" cy="1909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EA337-1502-4B0F-9964-D5FE1CB8EDB4}" type="slidenum"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8000" y="1547640"/>
          <a:ext cx="8070480" cy="5727600"/>
        </p:xfrm>
        <a:graphic>
          <a:graphicData uri="http://schemas.openxmlformats.org/drawingml/2006/table">
            <a:tbl>
              <a:tblPr/>
              <a:tblGrid>
                <a:gridCol w="8070480"/>
              </a:tblGrid>
              <a:tr h="5899320">
                <a:tc>
                  <a:txBody>
                    <a:bodyPr lIns="90000" rIns="90000" tIns="58320" bIns="46800" anchor="t">
                      <a:noAutofit/>
                    </a:bodyPr>
                    <a:p>
                      <a:pPr marL="216000" indent="30240" algn="just">
                        <a:lnSpc>
                          <a:spcPct val="117000"/>
                        </a:lnSpc>
                        <a:spcBef>
                          <a:spcPts val="887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Un texto descriptivo es el que expone las características de una persona, animal, o cos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scribir es explicar con palabras cómo es alguien o algo. Es una especie de pintura o fotografía con palabr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odemos describir una persona, un animal, un objeto, un paisaje, un espacio, un ambiente, un estado de ánim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lasificaciones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(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9640" y="1763640"/>
          <a:ext cx="7995600" cy="5570280"/>
        </p:xfrm>
        <a:graphic>
          <a:graphicData uri="http://schemas.openxmlformats.org/drawingml/2006/table">
            <a:tbl>
              <a:tblPr/>
              <a:tblGrid>
                <a:gridCol w="3070440"/>
                <a:gridCol w="4925160"/>
              </a:tblGrid>
              <a:tr h="60624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la posición del autor del tex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0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O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Muestra la realidad tal y como 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563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la realidad tal y como la percibe el habla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4720" y="1768320"/>
          <a:ext cx="9151920" cy="5395680"/>
        </p:xfrm>
        <a:graphic>
          <a:graphicData uri="http://schemas.openxmlformats.org/drawingml/2006/table">
            <a:tbl>
              <a:tblPr/>
              <a:tblGrid>
                <a:gridCol w="2594160"/>
                <a:gridCol w="6557760"/>
              </a:tblGrid>
              <a:tr h="7480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enfoque adoptad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9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tende presentar lo bueno y lo malo; domina la o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36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Id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solo lo bueno, o lo que le gusta al autor del texto; domina la su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681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grada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fundamentalmente lo malo, o lo que disgusta y produce desagrado al autor; domina la subjetividad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lasificaciones (II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4720" y="1908000"/>
          <a:ext cx="9220320" cy="5251680"/>
        </p:xfrm>
        <a:graphic>
          <a:graphicData uri="http://schemas.openxmlformats.org/drawingml/2006/table">
            <a:tbl>
              <a:tblPr/>
              <a:tblGrid>
                <a:gridCol w="2087640"/>
                <a:gridCol w="7132680"/>
              </a:tblGrid>
              <a:tr h="70992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1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17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ersona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osopografía: descripción de los detalles físic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topeya: descripción de los aspectos psíquicos, morales, los gustos y costumbr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3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trato: descripción complet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4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utorretrato: descripción del propio auto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5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aricatura: retrato subjetivo con fines humorísticos o satíricos; se exageran los detalles (hipérbole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V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19280" y="1979640"/>
          <a:ext cx="8786160" cy="4576320"/>
        </p:xfrm>
        <a:graphic>
          <a:graphicData uri="http://schemas.openxmlformats.org/drawingml/2006/table">
            <a:tbl>
              <a:tblPr/>
              <a:tblGrid>
                <a:gridCol w="2468880"/>
                <a:gridCol w="6317280"/>
              </a:tblGrid>
              <a:tr h="7102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2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spacio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Topografía: descripción de un lugar, una ciudad o pueblo, un paisaje. Podemos distinguir entre los espacios interiores y los exteriores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6360" y="250560"/>
            <a:ext cx="9074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)</a:t>
            </a:r>
            <a:br>
              <a:rPr sz="24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23800" y="1406520"/>
          <a:ext cx="9145800" cy="5901840"/>
        </p:xfrm>
        <a:graphic>
          <a:graphicData uri="http://schemas.openxmlformats.org/drawingml/2006/table">
            <a:tbl>
              <a:tblPr/>
              <a:tblGrid>
                <a:gridCol w="2568600"/>
                <a:gridCol w="6577200"/>
              </a:tblGrid>
              <a:tr h="2678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Verb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parecen muchos verbos copulativos (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r, estar, parecer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 observa que muchas formas verbales  van en presente o pretérito imperfecto de indicativ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32238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stan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3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n una descripción son frecuentes los sustantivos, pues es necesario concretar los distintos objetos o conceptos de los que hablamos. En general (descripciones de personas, animales, cosas, paisajes) serán sustantivos concre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9440" y="1508040"/>
          <a:ext cx="9437400" cy="5875200"/>
        </p:xfrm>
        <a:graphic>
          <a:graphicData uri="http://schemas.openxmlformats.org/drawingml/2006/table">
            <a:tbl>
              <a:tblPr/>
              <a:tblGrid>
                <a:gridCol w="1943280"/>
                <a:gridCol w="7494120"/>
              </a:tblGrid>
              <a:tr h="998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je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6000" indent="1260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on muy abundantes, pues sirven para especificar o explicar detal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92636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verbi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contraremos adverbios de lugar, de tiempo, de cantidad (como modificadores de adjetivos, muchas veces, para indicar la gradación), y de modo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9502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-ciones y metáfor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 veces encontraremos diversas comparacio- nes ("símiles"), que sirven para ejemplificar, explicar o insistir (es decir, enfatizar) algunos detalles. En los textos descriptivos de tipo literario encontraremos muchas veces metáforas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Esquema resume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52360" y="2664000"/>
          <a:ext cx="7704000" cy="266472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2664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 continuación, para finalizar, te presentamos un mapa conceptual sobre la elaboración de un texto descrip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1640" y="324000"/>
            <a:ext cx="9291960" cy="696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07:13:26Z</dcterms:modified>
  <cp:revision>15</cp:revision>
  <dc:subject/>
  <dc:title>EL TEXTO DESCRIPTIVO  </dc:title>
</cp:coreProperties>
</file>